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020A5-E7FC-4D1D-BE3E-847CE8436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01E48-0B5A-4708-8E56-310B64A5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A6CBE-90D2-42A7-BC3E-73165E2A9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B9288-0929-482B-9E4D-BEE8E81F8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FF8B4-C348-44B3-BA7C-B0F196D4D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62467-7C4A-4EF0-92D5-EAE08B9F5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CF380-17E2-4789-80FA-CE6E31F76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DBFC4-FBCC-4F4B-AD0D-8215328E9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F199C-14D9-4030-9E4F-A9D2EF22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7A911-D40F-4398-B2F5-996108F69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609BA-9EBD-4802-A62E-848A82898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E5950-CB08-4AD0-B376-097F4D832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2A61A-E173-4E0D-B37F-A35C4D6E5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B50E0-CCD4-4458-A07B-737F2EAC2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0837F-8F08-4C84-A7E7-DD54FDE08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E3A35-4B3D-46F7-8458-1C8D88B09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D98D4-F284-485F-8E97-76AEE3FAD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2355EAC-DBF5-4D4F-AF3B-8F9E610428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E1637A-6B20-4ED7-A0AF-C8275D82D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D8D946-5184-4695-8427-C63D5BF8D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F7E7F4-3FBC-497F-8147-58FB83729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867BA9-749A-4AA0-B5AA-AA7085843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59F90-3535-4240-8764-05C0C4C8F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F959F1-4A3E-4A31-9A8C-BC98B1D6E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97AA46-ECD5-4ECF-866F-94CAE25CF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70B314-609B-4E27-B9CC-49FFD9805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A12248-A30B-4FD3-A974-6A3AF3062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C569F4-4F35-4574-8BD4-27CE674D1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55D4FD9-38A7-4C69-9C7E-A66914F294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076AAD4-9D70-4631-A17B-A30707AD3A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F38C0D9-9352-494C-8A39-B3F8DA439D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E35D7D-F651-458D-AB09-B0E5BCD6A8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E3AC37-E99A-4AD7-A9D4-B7E1DD4F6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03C47-A4B4-4DB1-9D5C-85A2EDDB9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3E864B-4305-49F3-AA10-5605A27A90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2628D8-D2BC-45D8-A73E-F873FE4F3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4CE2F4-6E70-4385-8D91-BA9175ED0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D14FAB-E2DE-4AF4-BA56-3F08EDC60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9F2AA9-0929-46DF-BA4F-2B2D090F9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47F8DA-7BCD-44A1-BE9A-903D9CE88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0500F2-6AAF-4EDF-9561-57EC8DC68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AD83120-BEFD-45F2-948E-BE9C75F0B9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D718F93-C09E-4B48-BD90-D7499DE2F7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922CE77-CFA2-4176-BA0C-38EE5CE78F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85F8D-A938-46A6-BE16-6A8C8B931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45D493-9CB0-4114-A685-DD2E88A07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B79D33-86AC-4313-ADA7-7AB20DC15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9BED2F-930F-45AD-B77B-436DCC89A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B229AB-EFCD-4A56-A69F-838153B1AB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E5BAF3-77C5-49F8-9841-F9EA693C9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580912-FEFB-4F96-BB0B-E7F743B4D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9D67EA-8072-492B-BA29-785B888B2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F67FF5-2CC3-4512-A33E-8EBE45793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2C55F4-825F-47F6-A59B-AD920090A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8AD4B9-BD3E-40F5-945F-D867E2E7F4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C189A-E37F-4D27-8B41-B3DC9B13E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A9E8EA6-832B-423E-91B3-1C396A65EE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C192E2-ED03-4CAB-86B6-A49472BDA5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1A6909-EC10-4E13-9408-B12A0A608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B0A832-E7F2-44F0-86EE-06AB4CFD3B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5CCF78-05C7-41CB-8D5E-07FB4D626E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AA8EF7-18D4-4EE1-B74E-0DFFE2132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453A15-5E32-49BB-9CFD-554F733626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8DCFF-0D75-471C-B176-23906BD461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A27D2C-E5B5-4EC8-AF9B-D4F86E405A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51A20-24EE-4656-81F9-B0771B251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9312-4631-46D1-9C3F-001927C32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6A48F-2610-4B13-A636-7A5F9B4E1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BC60B9-AD93-4651-A3E8-293DD85525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33469F-8AB3-453B-9E05-213382211C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D918532-2539-47FB-842B-DC1D0AFA36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3D72D01-FE99-4C67-BD2C-30FEF18B1F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F85FACA-16AA-4DC5-B383-1682984FFF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C65C3F-ACDB-4B75-A7CE-83D0320145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22E79B9-ED67-45A2-8DA6-17E37F60EE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5A71426-8B15-4AC7-AA6A-9BCFD75C48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400734-6ED2-4A5F-98A8-1E002172A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CC635-A10E-462D-94BA-0966D7EB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087215-EA4B-4433-923B-9C9879E922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738A57-CFD0-4481-9615-5BB397CBC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D7BB1E2-33D9-4C45-8AC0-8DD91FF335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222F55B-29F0-4E8C-B17E-54858CBEC2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2BE50EE-CBC5-46CC-A2CB-FE973DA623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8B5190-35EF-4366-8620-9156DC6F9A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75CD50-059B-4F56-B398-7FB3AF023A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4859E8-3F35-4568-9CD7-CE018A7EB6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DE3D4C-013C-49AF-8864-A4BC0E0F35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C40807-D4B4-4B0A-A8CB-AFA8202F52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C3531-86C7-4682-BF19-703EBA4A7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D77C84-8AE4-4700-85EF-FD17A9AEDC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542E9A-3F0E-45C4-991B-A5886062F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3CA428-4332-425E-9EAF-F920E039C9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5A95E4-7638-41DD-AE15-3B9D3513B7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380777-CCAF-43F1-BAF4-2BCD449F31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1BF6BF-B738-4BCB-9D3A-2845D114D3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6F7415-C926-4650-89EE-2A1E7DCCE21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A7A8-1A92-4344-9996-081148E3C9A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dec9"/>
                </a:solidFill>
                <a:latin typeface="Tw Cen MT"/>
              </a:rPr>
              <a:t>Click to edit the title text format</a:t>
            </a:r>
            <a:endParaRPr b="0" lang="en-US" sz="4400" spc="-1" strike="noStrike">
              <a:solidFill>
                <a:srgbClr val="e7dec9"/>
              </a:solidFill>
              <a:latin typeface="Tw Cen MT"/>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7dec9"/>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AB6C-0872-465B-9FE9-D7A567F1575B}" type="slidenum">
              <a:rPr b="1" lang="en-US" sz="1400" spc="-1" strike="noStrike">
                <a:solidFill>
                  <a:srgbClr val="e7dec9"/>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9"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100"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30EC-70DC-421D-B7BB-3B3A26ED02D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01"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C018-0959-440D-A94F-0D5D33E27AA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58FE-24AB-4D7F-8ACD-D7425ABDEA4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232"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8BC8-E16C-41BD-B7B2-A4AF70FE4DDD}"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9"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280"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3BF5-C843-4DCE-BB27-9161C531C8A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81"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26"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327"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7FC0-C733-4B4A-A43F-35D886071C5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0" descr="C:\Users\Chantelle\AppData\Local\Microsoft\Windows\Temporary Internet Files\Content.IE5\ZT1ADGSO\MCj04382470000[1].wmf"/>
          <p:cNvPicPr/>
          <p:nvPr/>
        </p:nvPicPr>
        <p:blipFill>
          <a:blip r:embed="rId1"/>
          <a:stretch/>
        </p:blipFill>
        <p:spPr>
          <a:xfrm>
            <a:off x="0" y="-228600"/>
            <a:ext cx="8991720" cy="5943600"/>
          </a:xfrm>
          <a:prstGeom prst="rect">
            <a:avLst/>
          </a:prstGeom>
          <a:ln w="0">
            <a:noFill/>
          </a:ln>
        </p:spPr>
      </p:pic>
      <p:sp>
        <p:nvSpPr>
          <p:cNvPr id="366" name="PlaceHolder 1"/>
          <p:cNvSpPr>
            <a:spLocks noGrp="1"/>
          </p:cNvSpPr>
          <p:nvPr>
            <p:ph type="title"/>
          </p:nvPr>
        </p:nvSpPr>
        <p:spPr>
          <a:xfrm>
            <a:off x="3200040" y="3733560"/>
            <a:ext cx="6248520" cy="23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22223"/>
                </a:solidFill>
                <a:latin typeface="Tw Cen MT"/>
              </a:rPr>
              <a:t>HOMELESSNESS</a:t>
            </a:r>
            <a:r>
              <a:rPr b="1" lang="en-US" sz="3800" spc="-1" strike="noStrike">
                <a:solidFill>
                  <a:srgbClr val="000000"/>
                </a:solidFill>
                <a:latin typeface="Tw Cen MT"/>
              </a:rPr>
              <a:t> </a:t>
            </a:r>
            <a:r>
              <a:rPr b="1" lang="en-US" sz="3800" spc="-1" strike="noStrike">
                <a:solidFill>
                  <a:srgbClr val="922223"/>
                </a:solidFill>
                <a:latin typeface="Tw Cen MT"/>
              </a:rPr>
              <a:t>AND THE EFFECTS ON STUDENT’S BEHAVIOR AND ATTITUDES IN THE SCHOOL SETTING</a:t>
            </a:r>
            <a:endParaRPr b="0" lang="en-US" sz="3800" spc="-1" strike="noStrike">
              <a:solidFill>
                <a:srgbClr val="e7dec9"/>
              </a:solidFill>
              <a:latin typeface="Tw Cen MT"/>
            </a:endParaRPr>
          </a:p>
        </p:txBody>
      </p:sp>
      <p:sp>
        <p:nvSpPr>
          <p:cNvPr id="367"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 Action Research Project                      By Tiffany Green</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DUC 702.22, Spring 2010</a:t>
            </a:r>
            <a:endParaRPr b="0" lang="en-US" sz="2000" spc="-1" strike="noStrike">
              <a:solidFill>
                <a:srgbClr val="ffffff"/>
              </a:solidFill>
              <a:latin typeface="Tw Cen MT"/>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issue of homelessness has created many behavioral issues and attitudes that have become challenges for students who are at a higher risk of emotional, physical and social problems. (Risko &amp; Walker-Dalhouse, 2008)</a:t>
            </a: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formational guides are provided to school officials on ways to educate and treat homeless students in the public school setting. (Seifert &amp; Stauffer, 2000)</a:t>
            </a: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w Cen MT"/>
              </a:rPr>
              <a:t>Current Strategies</a:t>
            </a:r>
            <a:endParaRPr b="0" lang="en-US" sz="5400" spc="-1" strike="noStrike">
              <a:solidFill>
                <a:srgbClr val="000000"/>
              </a:solidFill>
              <a:latin typeface="Tw Cen MT"/>
            </a:endParaRPr>
          </a:p>
          <a:p>
            <a:pPr marL="280440" indent="-2804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case study proved that 240 homeless students who were bused to a college campus to reside there permanently for 10 days for a period of 3 weeks did significantly better on their post literacy test than their pre literacy screening. (Sinatra,2007)</a:t>
            </a:r>
            <a:endParaRPr b="0" lang="en-US" sz="2900" spc="-1" strike="noStrike">
              <a:solidFill>
                <a:srgbClr val="000000"/>
              </a:solidFill>
              <a:latin typeface="Tw Cen MT"/>
            </a:endParaRPr>
          </a:p>
          <a:p>
            <a:pPr marL="280440" indent="-2804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haracter Education implementation in classrooms have begun across the nation. (Brimi, 2009) </a:t>
            </a:r>
            <a:endParaRPr b="0" lang="en-US" sz="2900" spc="-1" strike="noStrike">
              <a:solidFill>
                <a:srgbClr val="000000"/>
              </a:solidFill>
              <a:latin typeface="Tw Cen MT"/>
            </a:endParaRPr>
          </a:p>
          <a:p>
            <a:pPr marL="280440" indent="-2804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en-US" sz="2900" spc="-1" strike="noStrike">
                <a:solidFill>
                  <a:srgbClr val="000000"/>
                </a:solidFill>
                <a:latin typeface="Tw Cen MT"/>
              </a:rPr>
              <a:t>Pros as a Result of Collaboration and Interventions</a:t>
            </a:r>
            <a:endParaRPr b="0" lang="en-US" sz="2900" spc="-1" strike="noStrike">
              <a:solidFill>
                <a:srgbClr val="000000"/>
              </a:solidFill>
              <a:latin typeface="Tw Cen MT"/>
            </a:endParaRPr>
          </a:p>
          <a:p>
            <a:pPr marL="299520" indent="-2995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is a link to the importance of dramatic role play in literature and expressing the emotions and imaginative play of homeless children in shelters. (Kraus, 2006)</a:t>
            </a:r>
            <a:endParaRPr b="0" lang="en-US" sz="2900" spc="-1" strike="noStrike">
              <a:solidFill>
                <a:srgbClr val="000000"/>
              </a:solidFill>
              <a:latin typeface="Tw Cen MT"/>
            </a:endParaRPr>
          </a:p>
          <a:p>
            <a:pPr marL="299520" indent="-2995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th the use of technology students are able to engage in virtual problem solving strategies through role-play. This helps to develop skills in order to resolve problems. (Dracup, 2008)</a:t>
            </a:r>
            <a:endParaRPr b="0" lang="en-US" sz="2900" spc="-1" strike="noStrike">
              <a:solidFill>
                <a:srgbClr val="000000"/>
              </a:solidFill>
              <a:latin typeface="Tw Cen MT"/>
            </a:endParaRPr>
          </a:p>
          <a:p>
            <a:pPr marL="299520" indent="-2995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icture books encourage discussion about cultural and behavioral norms and great for role play and social interaction. They engage young readers to think critically, analytically and foster character education principles. (O’Neil, 2010)</a:t>
            </a:r>
            <a:endParaRPr b="0" lang="en-US" sz="29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nseling as a strategy for helping these students and ways to develop positive peer and staff interaction. (Daniels, 1995)</a:t>
            </a:r>
            <a:endParaRPr b="0" lang="en-US" sz="29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vement in literacy success and behavioral development. (Da Costa Nunez, 1994) </a:t>
            </a: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Statement of the Hypothesis</a:t>
            </a:r>
            <a:endParaRPr b="0" lang="en-US" sz="4400" spc="-1" strike="noStrike">
              <a:solidFill>
                <a:srgbClr val="4f271c"/>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R1: Implementing character education lessons over a three week period three times a day for 30 minutes to 20 students at PS X who live in a NYC shelter will positively increase their behavior and attitude towards learning in the classroom. </a:t>
            </a:r>
            <a:endParaRPr b="0" lang="en-US" sz="2900" spc="-1" strike="noStrike">
              <a:solidFill>
                <a:srgbClr val="000000"/>
              </a:solidFill>
              <a:latin typeface="Tw Cen MT"/>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38088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Methods</a:t>
            </a:r>
            <a:endParaRPr b="0" lang="en-US" sz="4400" spc="-1" strike="noStrike">
              <a:solidFill>
                <a:srgbClr val="4f271c"/>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articipants (N)</a:t>
            </a:r>
            <a:r>
              <a:rPr b="0" lang="en-US" sz="2900" spc="-1" strike="noStrike">
                <a:solidFill>
                  <a:srgbClr val="000000"/>
                </a:solidFill>
                <a:latin typeface="Tw Cen MT"/>
              </a:rPr>
              <a:t>: The students for this study were selected from an increasing number of homeless youth in the 4</a:t>
            </a:r>
            <a:r>
              <a:rPr b="0" lang="en-US" sz="2900" spc="-1" strike="noStrike" baseline="30000">
                <a:solidFill>
                  <a:srgbClr val="000000"/>
                </a:solidFill>
                <a:latin typeface="Tw Cen MT"/>
              </a:rPr>
              <a:t>th</a:t>
            </a:r>
            <a:r>
              <a:rPr b="0" lang="en-US" sz="2900" spc="-1" strike="noStrike">
                <a:solidFill>
                  <a:srgbClr val="000000"/>
                </a:solidFill>
                <a:latin typeface="Tw Cen MT"/>
              </a:rPr>
              <a:t> grade at PS X in Brooklyn, New York. The population is 50% boys and 50% girls of either African American or Hispanic decent. Twenty students were randomly selected from a list of homeless students and asked to participate in the study for a period of 3 weeks, 3 times a day for 30 minute intervals. </a:t>
            </a: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Instruments</a:t>
            </a:r>
            <a:endParaRPr b="0" lang="en-US" sz="4400" spc="-1" strike="noStrike">
              <a:solidFill>
                <a:srgbClr val="4f271c"/>
              </a:solidFill>
              <a:latin typeface="Tw Cen MT"/>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ral measurement instruments will be used to determine the attitudes and behaviors of these 20 homeless students</a:t>
            </a:r>
            <a:endParaRPr b="0" lang="en-US" sz="29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r>
              <a:rPr b="0" lang="en-US" sz="2600" spc="-1" strike="noStrike">
                <a:solidFill>
                  <a:srgbClr val="000000"/>
                </a:solidFill>
                <a:latin typeface="Tw Cen MT"/>
              </a:rPr>
              <a:t>Parent- child consent form </a:t>
            </a:r>
            <a:endParaRPr b="0" lang="en-US" sz="26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ersonal student surveys</a:t>
            </a:r>
            <a:endParaRPr b="0" lang="en-US" sz="26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r>
              <a:rPr b="0" lang="en-US" sz="2600" spc="-1" strike="noStrike">
                <a:solidFill>
                  <a:srgbClr val="000000"/>
                </a:solidFill>
                <a:latin typeface="Tw Cen MT"/>
              </a:rPr>
              <a:t>Teacher- student behavioral assessment survey</a:t>
            </a:r>
            <a:endParaRPr b="0" lang="en-US" sz="26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r>
              <a:rPr b="0" lang="en-US" sz="2600" spc="-1" strike="noStrike">
                <a:solidFill>
                  <a:srgbClr val="000000"/>
                </a:solidFill>
                <a:latin typeface="Tw Cen MT"/>
              </a:rPr>
              <a:t>Parent- child behavioral assessment survey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ferences</a:t>
            </a:r>
            <a:endParaRPr b="0" lang="en-US" sz="4400" spc="-1" strike="noStrike">
              <a:solidFill>
                <a:srgbClr val="4f271c"/>
              </a:solidFill>
              <a:latin typeface="Tw Cen MT"/>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fer to Final Action Research Report for 25 citations in APA-6</a:t>
            </a:r>
            <a:r>
              <a:rPr b="0" lang="en-US" sz="2900" spc="-1" strike="noStrike" baseline="30000">
                <a:solidFill>
                  <a:srgbClr val="000000"/>
                </a:solidFill>
                <a:latin typeface="Tw Cen MT"/>
              </a:rPr>
              <a:t>TH</a:t>
            </a:r>
            <a:r>
              <a:rPr b="0" lang="en-US" sz="2900" spc="-1" strike="noStrike">
                <a:solidFill>
                  <a:srgbClr val="000000"/>
                </a:solidFill>
                <a:latin typeface="Tw Cen MT"/>
              </a:rPr>
              <a:t> Edition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Appendix A: Consent Form</a:t>
            </a:r>
            <a:endParaRPr b="0" lang="en-US" sz="4400" spc="-1" strike="noStrike">
              <a:solidFill>
                <a:srgbClr val="4f271c"/>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ar Principal,</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I am writing to inform you that I am completing my graduate work in the Childhood Education Program at Brooklyn College and  I am interested in performing an action research project at your school for the completion of my Masters degree in the Fall 2010.  The purpose of my research is to determine the attitudes and behaviors of homeless students in the public school setting. My research will require me to work with a controlled group of 20 homeless 4</a:t>
            </a:r>
            <a:r>
              <a:rPr b="0" lang="en-US" sz="1400" spc="-1" strike="noStrike" baseline="30000">
                <a:solidFill>
                  <a:srgbClr val="000000"/>
                </a:solidFill>
                <a:latin typeface="Tw Cen MT"/>
              </a:rPr>
              <a:t>th</a:t>
            </a:r>
            <a:r>
              <a:rPr b="0" lang="en-US" sz="1400" spc="-1" strike="noStrike">
                <a:solidFill>
                  <a:srgbClr val="000000"/>
                </a:solidFill>
                <a:latin typeface="Tw Cen MT"/>
              </a:rPr>
              <a:t> grade students over a course of 3 weeks 3 times a day for 30 minute periods. I will be using detailed personal surveys from these students, their parents and their teachers as my instrument of measurement.  This attempt will help me to gather the most accurate information about student attitudes and behaviors toward school and the services that can be render to help them achieve. </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All of the results obtained from the participants will be keep private and anonymous. The results gathered will help me get a clearer look into the minds of homeless students and make an attempt at getting the personal services that they need to succeed in school and ultimately in life.</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s a result I am asking for your permission to carry out my action research project at your school during the new 2010 school year in September. Thanking you in advance for your cooperation and support in this matter. Please contact me if you have any questions.</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Sincerely,</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iffany Green</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Appendix B: Student Survey</a:t>
            </a:r>
            <a:endParaRPr b="0" lang="en-US" sz="4400" spc="-1" strike="noStrike">
              <a:solidFill>
                <a:srgbClr val="4f271c"/>
              </a:solidFill>
              <a:latin typeface="Tw Cen MT"/>
            </a:endParaRPr>
          </a:p>
        </p:txBody>
      </p:sp>
      <p:sp>
        <p:nvSpPr>
          <p:cNvPr id="403" name=""/>
          <p:cNvSpPr txBox="1"/>
          <p:nvPr/>
        </p:nvSpPr>
        <p:spPr>
          <a:xfrm>
            <a:off x="612720" y="1600200"/>
            <a:ext cx="8153280" cy="4495680"/>
          </a:xfrm>
          <a:prstGeom prst="rect">
            <a:avLst/>
          </a:prstGeom>
          <a:noFill/>
          <a:ln w="0">
            <a:noFill/>
          </a:ln>
        </p:spPr>
        <p:txBody>
          <a:bodyPr anchor="t">
            <a:normAutofit fontScale="81000"/>
          </a:bodyPr>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be given to all 20 participants prior to  action research)</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Directions:</a:t>
            </a:r>
            <a:r>
              <a:rPr b="0" lang="en-US" sz="1600" spc="-1" strike="noStrike">
                <a:solidFill>
                  <a:srgbClr val="000000"/>
                </a:solidFill>
                <a:latin typeface="Tw Cen MT"/>
              </a:rPr>
              <a:t> Please write the number on the line that matches the most accurate statement.</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Part A: Demographics</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Gender</a:t>
            </a:r>
            <a:r>
              <a:rPr b="0" lang="en-US" sz="1600" spc="-1" strike="noStrike">
                <a:solidFill>
                  <a:srgbClr val="000000"/>
                </a:solidFill>
                <a:latin typeface="Tw Cen MT"/>
              </a:rPr>
              <a:t>:  (1) Male   (2) Female</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____</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Age</a:t>
            </a:r>
            <a:r>
              <a:rPr b="0" lang="en-US" sz="1600" spc="-1" strike="noStrike">
                <a:solidFill>
                  <a:srgbClr val="000000"/>
                </a:solidFill>
                <a:latin typeface="Tw Cen MT"/>
              </a:rPr>
              <a:t>: (1) 7 years old  (2) 8 years old  (3) 9 years old  (4) 10 years old          ____</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Race</a:t>
            </a:r>
            <a:r>
              <a:rPr b="0" lang="en-US" sz="1600" spc="-1" strike="noStrike">
                <a:solidFill>
                  <a:srgbClr val="000000"/>
                </a:solidFill>
                <a:latin typeface="Tw Cen MT"/>
              </a:rPr>
              <a:t>: (1) Caucasian (2) African-American (3) Hispanic </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4) Asian         (5) Mixed Heritage     (6) Other                                  ____</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Number of people in the household (including yourself)</a:t>
            </a:r>
            <a:r>
              <a:rPr b="0" lang="en-US" sz="1600" spc="-1" strike="noStrike">
                <a:solidFill>
                  <a:srgbClr val="000000"/>
                </a:solidFill>
                <a:latin typeface="Tw Cen MT"/>
              </a:rPr>
              <a:t>:</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2 people  (2) 3 people  (3) 4 people  (4) 5 or more people                          ____       </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Part B: Personal Feelings</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Directions</a:t>
            </a:r>
            <a:r>
              <a:rPr b="0" lang="en-US" sz="1600" spc="-1" strike="noStrike">
                <a:solidFill>
                  <a:srgbClr val="000000"/>
                </a:solidFill>
                <a:latin typeface="Tw Cen MT"/>
              </a:rPr>
              <a:t>: Please write the number on the line that matches how you feel about the statement.</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1                               2                              3                              4</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rongly Agree             Agree                   Disagree          Strongly Disagree</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going to school.                                                                               ___________</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feel safe at school.                                                                               ___________</a:t>
            </a:r>
            <a:endParaRPr b="0" lang="en-US" sz="1600" spc="-1" strike="noStrike">
              <a:solidFill>
                <a:srgbClr val="000000"/>
              </a:solidFill>
              <a:latin typeface="Tw Cen MT"/>
            </a:endParaRPr>
          </a:p>
          <a:p>
            <a:pPr marL="258120" indent="-258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able of Contents</a:t>
            </a:r>
            <a:endParaRPr b="0" lang="en-US" sz="4400" spc="-1" strike="noStrike">
              <a:solidFill>
                <a:srgbClr val="4f271c"/>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 </a:t>
            </a:r>
            <a:r>
              <a:rPr b="1" lang="en-US" sz="4400" spc="-1" strike="noStrike">
                <a:solidFill>
                  <a:srgbClr val="000000"/>
                </a:solidFill>
                <a:latin typeface="Tw Cen MT"/>
              </a:rPr>
              <a:t>Abstract</a:t>
            </a:r>
            <a:endParaRPr b="0" lang="en-US" sz="44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Introduction</a:t>
            </a:r>
            <a:endParaRPr b="0" lang="en-US" sz="4400" spc="-1" strike="noStrike">
              <a:solidFill>
                <a:srgbClr val="000000"/>
              </a:solidFill>
              <a:latin typeface="Tw Cen MT"/>
            </a:endParaRPr>
          </a:p>
          <a:p>
            <a:pPr lvl="1" marL="626760" indent="-26712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atement of the Problem                         3</a:t>
            </a:r>
            <a:endParaRPr b="0" lang="en-US" sz="3200" spc="-1" strike="noStrike">
              <a:solidFill>
                <a:srgbClr val="000000"/>
              </a:solidFill>
              <a:latin typeface="Tw Cen MT"/>
            </a:endParaRPr>
          </a:p>
          <a:p>
            <a:pPr lvl="1" marL="626760" indent="-26712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view of Related Literature</a:t>
            </a:r>
            <a:r>
              <a:rPr b="0" lang="en-US" sz="3200" spc="-1" strike="noStrike">
                <a:solidFill>
                  <a:srgbClr val="000000"/>
                </a:solidFill>
                <a:latin typeface="Tw Cen MT"/>
              </a:rPr>
              <a:t>	</a:t>
            </a:r>
            <a:r>
              <a:rPr b="0" lang="en-US" sz="3200" spc="-1" strike="noStrike">
                <a:solidFill>
                  <a:srgbClr val="000000"/>
                </a:solidFill>
                <a:latin typeface="Tw Cen MT"/>
              </a:rPr>
              <a:t>	</a:t>
            </a:r>
            <a:r>
              <a:rPr b="0" lang="en-US" sz="3200" spc="-1" strike="noStrike">
                <a:solidFill>
                  <a:srgbClr val="000000"/>
                </a:solidFill>
                <a:latin typeface="Tw Cen MT"/>
              </a:rPr>
              <a:t>      5-10</a:t>
            </a:r>
            <a:endParaRPr b="0" lang="en-US" sz="3200" spc="-1" strike="noStrike">
              <a:solidFill>
                <a:srgbClr val="000000"/>
              </a:solidFill>
              <a:latin typeface="Tw Cen MT"/>
            </a:endParaRPr>
          </a:p>
          <a:p>
            <a:pPr lvl="1" marL="626760" indent="-26712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atement of the Hypothesis                    11</a:t>
            </a:r>
            <a:endParaRPr b="0" lang="en-US" sz="32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Student Survey (cont’d)</a:t>
            </a:r>
            <a:endParaRPr b="0" lang="en-US" sz="4400" spc="-1" strike="noStrike">
              <a:solidFill>
                <a:srgbClr val="4f271c"/>
              </a:solidFill>
              <a:latin typeface="Tw Cen MT"/>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my teacher and classmates.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think that I am a good student.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feel good about myself.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get along well with others.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where I live.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to talk about my feelings.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get mad I misbehave.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parents help me with my homework.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w Cen MT"/>
              </a:rPr>
              <a:t>Appendix C:Teacher-Student Survey</a:t>
            </a:r>
            <a:endParaRPr b="0" lang="en-US" sz="4000" spc="-1" strike="noStrike">
              <a:solidFill>
                <a:srgbClr val="4f271c"/>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Teacher-Student Behavioral Assessment Survey on Attitudes and Behavior</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be given to the teacher of all 20 participants prior to action research)</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Directions:</a:t>
            </a:r>
            <a:r>
              <a:rPr b="0" lang="en-US" sz="1600" spc="-1" strike="noStrike">
                <a:solidFill>
                  <a:srgbClr val="000000"/>
                </a:solidFill>
                <a:latin typeface="Tw Cen MT"/>
              </a:rPr>
              <a:t> Please write the number on the line that matches the most accurate statement.</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1                               2                              3                              4</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rongly Agree             Agree                   Disagree          Strongly Disagree</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teaching students.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at least 15 students in my class.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know the signs of a struggling student.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talk to all my students individually for at least 5 </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inutes a day every day.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am aware of their living conditions at home.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tried to create a classroom that is safe </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comfortable for my students to learn and </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re their feelings.                                                                                           _______</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eacher-Student Survey (cont’d)</a:t>
            </a:r>
            <a:endParaRPr b="0" lang="en-US" sz="4400" spc="-1" strike="noStrike">
              <a:solidFill>
                <a:srgbClr val="4f271c"/>
              </a:solidFill>
              <a:latin typeface="Tw Cen MT"/>
            </a:endParaRPr>
          </a:p>
        </p:txBody>
      </p:sp>
      <p:sp>
        <p:nvSpPr>
          <p:cNvPr id="409" name=""/>
          <p:cNvSpPr txBox="1"/>
          <p:nvPr/>
        </p:nvSpPr>
        <p:spPr>
          <a:xfrm>
            <a:off x="612720" y="1600200"/>
            <a:ext cx="8153280" cy="4495680"/>
          </a:xfrm>
          <a:prstGeom prst="rect">
            <a:avLst/>
          </a:prstGeom>
          <a:noFill/>
          <a:ln w="0">
            <a:noFill/>
          </a:ln>
        </p:spPr>
        <p:txBody>
          <a:bodyPr anchor="t">
            <a:normAutofit fontScale="78000"/>
          </a:bodyPr>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am in advocate for character education in schools.                                       _______       </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at least 25% of students who are homeless.                                         _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encourage parent and/or family involvement.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elp my students access the services they</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eed to improve their academics and behavior.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monitor my students grades as well as their </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havior.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can tell when a student is acting out for attention.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reward good behavior and address negative</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havior.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attend school workshops to learn how to assess</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student’s behaviors.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collaborate with other teachers and school </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ficials such as counselors to share ideas and intervention</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echniques.                                                                                                       ______  </a:t>
            </a:r>
            <a:r>
              <a:rPr b="0" lang="en-US" sz="3200" spc="-1" strike="noStrike">
                <a:solidFill>
                  <a:srgbClr val="000000"/>
                </a:solidFill>
                <a:latin typeface="Tw Cen MT"/>
              </a:rPr>
              <a:t>                                                                                            </a:t>
            </a:r>
            <a:endParaRPr b="0" lang="en-US" sz="3200" spc="-1" strike="noStrike">
              <a:solidFill>
                <a:srgbClr val="000000"/>
              </a:solidFill>
              <a:latin typeface="Tw Cen MT"/>
            </a:endParaRPr>
          </a:p>
          <a:p>
            <a:pPr marL="248760" indent="-248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Appendix D: Parent-Child Survey</a:t>
            </a:r>
            <a:endParaRPr b="0" lang="en-US" sz="4400" spc="-1" strike="noStrike">
              <a:solidFill>
                <a:srgbClr val="4f271c"/>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Parent-Child Behavioral Assessment Survey on Attitudes and Behavior</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be given to the parent of all 20 participants prior to action research)</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Directions:</a:t>
            </a:r>
            <a:r>
              <a:rPr b="0" lang="en-US" sz="1600" spc="-1" strike="noStrike">
                <a:solidFill>
                  <a:srgbClr val="000000"/>
                </a:solidFill>
                <a:latin typeface="Tw Cen MT"/>
              </a:rPr>
              <a:t> Please write the number on the line that matches the most accurate statement.</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1                               2                              3                              4</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rongly Agree             Agree                   Disagree          Strongly Disagree</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am involved in the education of my child.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an open relationship with my child’s teacher.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talk to my child about his/her feelings and how to </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al with them.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provided a safe and loving home for my child.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child is a social person who likes school.                                                     ______                                                       </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child gets along well with other family members.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gotten good reports about my child’s academics </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behavior from their teacher.                                                                     ______</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Parent-Child Survey (cont’d)</a:t>
            </a:r>
            <a:endParaRPr b="0" lang="en-US" sz="4400" spc="-1" strike="noStrike">
              <a:solidFill>
                <a:srgbClr val="4f271c"/>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child and I have a great relationship.                                            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encourage my child to stay in school and pursue his/her</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oals in life.                                                                                      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ort out all of the services needed to help </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child.                                                                                           ______</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able of Contents</a:t>
            </a:r>
            <a:endParaRPr b="0" lang="en-US" sz="4400" spc="-1" strike="noStrike">
              <a:solidFill>
                <a:srgbClr val="4f271c"/>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Methods</a:t>
            </a:r>
            <a:endParaRPr b="0" lang="en-US" sz="44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Participants(N)</a:t>
            </a:r>
            <a:endParaRPr b="0" lang="en-US" sz="32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Instrument(s)</a:t>
            </a:r>
            <a:endParaRPr b="0" lang="en-US" sz="32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Experimental Design</a:t>
            </a:r>
            <a:endParaRPr b="0" lang="en-US" sz="32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Procedure</a:t>
            </a:r>
            <a:endParaRPr b="0" lang="en-US" sz="3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able of Contents</a:t>
            </a:r>
            <a:endParaRPr b="0" lang="en-US" sz="4400" spc="-1" strike="noStrike">
              <a:solidFill>
                <a:srgbClr val="4f271c"/>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sults</a:t>
            </a:r>
            <a:endParaRPr b="0" lang="en-US" sz="4400" spc="-1" strike="noStrike">
              <a:solidFill>
                <a:srgbClr val="000000"/>
              </a:solidFill>
              <a:latin typeface="Tw Cen MT"/>
            </a:endParaRPr>
          </a:p>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Discussion</a:t>
            </a:r>
            <a:endParaRPr b="0" lang="en-US" sz="4400" spc="-1" strike="noStrike">
              <a:solidFill>
                <a:srgbClr val="000000"/>
              </a:solidFill>
              <a:latin typeface="Tw Cen MT"/>
            </a:endParaRPr>
          </a:p>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Implications</a:t>
            </a:r>
            <a:endParaRPr b="0" lang="en-US" sz="4400" spc="-1" strike="noStrike">
              <a:solidFill>
                <a:srgbClr val="000000"/>
              </a:solidFill>
              <a:latin typeface="Tw Cen MT"/>
            </a:endParaRPr>
          </a:p>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ferences                               </a:t>
            </a:r>
            <a:r>
              <a:rPr b="0" lang="en-US" sz="3200" spc="-1" strike="noStrike">
                <a:solidFill>
                  <a:srgbClr val="000000"/>
                </a:solidFill>
                <a:latin typeface="Tw Cen MT"/>
              </a:rPr>
              <a:t>16</a:t>
            </a:r>
            <a:endParaRPr b="0" lang="en-US" sz="3200" spc="-1" strike="noStrike">
              <a:solidFill>
                <a:srgbClr val="000000"/>
              </a:solidFill>
              <a:latin typeface="Tw Cen MT"/>
            </a:endParaRPr>
          </a:p>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Appendix (ces)</a:t>
            </a:r>
            <a:endParaRPr b="0" lang="en-US" sz="4400" spc="-1" strike="noStrike">
              <a:solidFill>
                <a:srgbClr val="000000"/>
              </a:solidFill>
              <a:latin typeface="Tw Cen MT"/>
            </a:endParaRPr>
          </a:p>
          <a:p>
            <a:pPr lvl="1" marL="582120" indent="-24804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ppendix A: Parent-Child Consent form   18</a:t>
            </a:r>
            <a:endParaRPr b="0" lang="en-US" sz="3200" spc="-1" strike="noStrike">
              <a:solidFill>
                <a:srgbClr val="000000"/>
              </a:solidFill>
              <a:latin typeface="Tw Cen MT"/>
            </a:endParaRPr>
          </a:p>
          <a:p>
            <a:pPr lvl="1" marL="582120" indent="-24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 </a:t>
            </a:r>
            <a:r>
              <a:rPr b="1" lang="en-US" sz="4400" spc="-1" strike="noStrike">
                <a:solidFill>
                  <a:srgbClr val="000000"/>
                </a:solidFill>
                <a:latin typeface="Tw Cen MT"/>
              </a:rPr>
              <a:t>Table of Contents</a:t>
            </a:r>
            <a:endParaRPr b="0" lang="en-US" sz="4400" spc="-1" strike="noStrike">
              <a:solidFill>
                <a:srgbClr val="4f271c"/>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endix B: Personal Student Survey           19-20</a:t>
            </a:r>
            <a:endParaRPr b="0" lang="en-US" sz="29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endix C: Teacher-student behavioral assessment survey                                                        21-22</a:t>
            </a:r>
            <a:endParaRPr b="0" lang="en-US" sz="29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endix D: Parent-child behavioral assessment survey                                                        23-24</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Statement of the Problem</a:t>
            </a:r>
            <a:endParaRPr b="0" lang="en-US" sz="4400" spc="-1" strike="noStrike">
              <a:solidFill>
                <a:srgbClr val="4f271c"/>
              </a:solidFill>
              <a:latin typeface="Tw Cen MT"/>
            </a:endParaRPr>
          </a:p>
        </p:txBody>
      </p:sp>
      <p:sp>
        <p:nvSpPr>
          <p:cNvPr id="377" name=""/>
          <p:cNvSpPr txBox="1"/>
          <p:nvPr/>
        </p:nvSpPr>
        <p:spPr>
          <a:xfrm>
            <a:off x="612720" y="1600200"/>
            <a:ext cx="8153280" cy="4952880"/>
          </a:xfrm>
          <a:prstGeom prst="rect">
            <a:avLst/>
          </a:prstGeom>
          <a:noFill/>
          <a:ln w="0">
            <a:noFill/>
          </a:ln>
        </p:spPr>
        <p:txBody>
          <a:bodyPr anchor="t">
            <a:normAutofit fontScale="92000"/>
          </a:bodyPr>
          <a:p>
            <a:pPr marL="293400" indent="-29340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melessness is on the rise due to the economic recession affecting the nation. It is at its highest ever in NYC in over 25 years. As a result, there is an influx of individuals and families in the shelter system due to the lack of housing and financial resources (WWW.NYC.GOV)</a:t>
            </a:r>
            <a:endParaRPr b="0" lang="en-US" sz="2900" spc="-1" strike="noStrike">
              <a:solidFill>
                <a:srgbClr val="000000"/>
              </a:solidFill>
              <a:latin typeface="Tw Cen MT"/>
            </a:endParaRPr>
          </a:p>
          <a:p>
            <a:pPr marL="293400" indent="-29340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hool aged children lack the resources, support and services necessary to actively succeed in school and thus, their behaviors and attitudes are negatively effected by the lack of school advocates and parental involvement concerning their needs.   </a:t>
            </a:r>
            <a:endParaRPr b="0" lang="en-US" sz="2900" spc="-1" strike="noStrike">
              <a:solidFill>
                <a:srgbClr val="000000"/>
              </a:solidFill>
              <a:latin typeface="Tw Cen MT"/>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w Cen MT"/>
              </a:rPr>
              <a:t>Theorists</a:t>
            </a:r>
            <a:endParaRPr b="0" lang="en-US" sz="7200" spc="-1" strike="noStrike">
              <a:solidFill>
                <a:srgbClr val="4f271c"/>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Learning requires social interaction and collaboration.</a:t>
            </a: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J. Lave</a:t>
            </a: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	</a:t>
            </a:r>
            <a:r>
              <a:rPr b="0" lang="en-US" sz="4400" spc="-1" strike="noStrike">
                <a:solidFill>
                  <a:srgbClr val="000000"/>
                </a:solidFill>
                <a:latin typeface="Tw Cen MT"/>
              </a:rPr>
              <a:t>Hierarchy of Needs</a:t>
            </a: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 Maslow</a:t>
            </a: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7000"/>
          </a:bodyPr>
          <a:p>
            <a:pPr marL="309240" indent="-309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en-US" sz="2900" spc="-1" strike="noStrike">
                <a:solidFill>
                  <a:srgbClr val="000000"/>
                </a:solidFill>
                <a:latin typeface="Tw Cen MT"/>
              </a:rPr>
              <a:t>What are the facts?</a:t>
            </a: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melessness is a global problem that is growing and effecting the education of school aged children on a greater scale. There is a recurrent used for public shelters for 8,251 children in NYC linked to child welfare services. There is a need for community collaboration and increase in services. (Brodbar, Culhane, Metraux, &amp; Park 2004)</a:t>
            </a: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en-US" sz="2900" spc="-1" strike="noStrike">
                <a:solidFill>
                  <a:srgbClr val="000000"/>
                </a:solidFill>
                <a:latin typeface="Tw Cen MT"/>
              </a:rPr>
              <a:t>Supportive Theorists for Collaborative Methods</a:t>
            </a: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th the collaboration of both school and shelter personnel changes can be made to decrease feelings of isolation and embarrassment and foster unity in the lives of many of these children in need. (Hall, 2007)</a:t>
            </a: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ral cities have be noted as developing and implementing preventive strategies and activities for homeless youth in school. (DeSilva, Nabors &amp; Proesher, 2001)</a:t>
            </a: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24:49Z</dcterms:created>
  <dc:creator>Chantelle</dc:creator>
  <dc:description/>
  <dc:language>en-US</dc:language>
  <cp:lastModifiedBy>Chantelle</cp:lastModifiedBy>
  <dcterms:modified xsi:type="dcterms:W3CDTF">2010-05-26T17:13:11Z</dcterms:modified>
  <cp:revision>41</cp:revision>
  <dc:subject/>
  <dc:title>HOMELESSNESS AND THE EFFECTS ON STUDENT’S BEHAVIOR AND ATTITUDES IN THE SCHOOL SETTING</dc:title>
</cp:coreProperties>
</file>